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F7E6-0EA9-4873-9C85-64B42BDA6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52CD-1973-4CF5-BC24-5F57F07F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7C8C-AB70-46F1-BBEA-E2B761763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A888-A858-4566-AD99-D5A22049F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B495-76C5-493C-85F7-42ABFD88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D22A-DD90-4B9D-BE07-2C995216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60F4-86D6-4217-A233-F3B59CFF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4EAC-46C4-4AE6-A81F-C7D16272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A594-ACC6-4D87-B95C-AB33A551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360D-5301-4C9D-8EB7-99CCF2C8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CA71-D936-49FC-AF91-B0D43820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F788-CA76-47E4-9D1C-808D8C69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4D6F-1747-4112-ADCF-D9C571FB9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8377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notes to help you write a summary  that explains how a dry cell makes electrici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w and label a diagram to help explain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791320" y="388620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8600" y="4114800"/>
            <a:ext cx="51814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Word Ban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electrolyte, electrodes, chemical reaction, positive, negative, terminals, current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ttery Computer Assig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752480" y="0"/>
            <a:ext cx="55627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How it Work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057400" y="1752480"/>
            <a:ext cx="4732200" cy="3139920"/>
            <a:chOff x="2057400" y="1752480"/>
            <a:chExt cx="4732200" cy="3139920"/>
          </a:xfrm>
        </p:grpSpPr>
        <p:sp>
          <p:nvSpPr>
            <p:cNvPr id="47" name=""/>
            <p:cNvSpPr/>
            <p:nvPr/>
          </p:nvSpPr>
          <p:spPr>
            <a:xfrm>
              <a:off x="2057400" y="1752480"/>
              <a:ext cx="4732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057400" y="1752480"/>
              <a:ext cx="4732200" cy="31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20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" descr="Inside battery"/>
          <p:cNvPicPr/>
          <p:nvPr/>
        </p:nvPicPr>
        <p:blipFill>
          <a:blip r:embed="rId3"/>
          <a:stretch/>
        </p:blipFill>
        <p:spPr>
          <a:xfrm>
            <a:off x="2666880" y="685800"/>
            <a:ext cx="3517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62520" y="1981800"/>
            <a:ext cx="5181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could view a battery as a kind of pump. But instead of pumping water through pipes, the battery moves electrons through a wire and through the things that the wire is connected 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Inside battery"/>
          <p:cNvPicPr/>
          <p:nvPr/>
        </p:nvPicPr>
        <p:blipFill>
          <a:blip r:embed="rId1"/>
          <a:stretch/>
        </p:blipFill>
        <p:spPr>
          <a:xfrm>
            <a:off x="0" y="0"/>
            <a:ext cx="390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573360" y="1974960"/>
          <a:ext cx="1996920" cy="2909880"/>
        </p:xfrm>
        <a:graphic>
          <a:graphicData uri="http://schemas.openxmlformats.org/drawingml/2006/table">
            <a:tbl>
              <a:tblPr/>
              <a:tblGrid>
                <a:gridCol w="241200"/>
                <a:gridCol w="1755720"/>
              </a:tblGrid>
              <a:tr h="305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6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                                </a:t>
                      </a: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693960" y="3360600"/>
            <a:ext cx="9720" cy="28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Inside battery"/>
          <p:cNvPicPr/>
          <p:nvPr/>
        </p:nvPicPr>
        <p:blipFill>
          <a:blip r:embed="rId2"/>
          <a:stretch/>
        </p:blipFill>
        <p:spPr>
          <a:xfrm>
            <a:off x="0" y="0"/>
            <a:ext cx="39067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09880" y="3042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e's how a dry cell work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91120" y="2486160"/>
            <a:ext cx="4952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ell is made up of a zinc can, which acts as the  contai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743120"/>
            <a:ext cx="2133720" cy="3809880"/>
          </a:xfrm>
          <a:prstGeom prst="rect">
            <a:avLst/>
          </a:prstGeom>
          <a:solidFill>
            <a:srgbClr val="bbe0e3">
              <a:alpha val="37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573360" y="1974960"/>
          <a:ext cx="1996920" cy="2909880"/>
        </p:xfrm>
        <a:graphic>
          <a:graphicData uri="http://schemas.openxmlformats.org/drawingml/2006/table">
            <a:tbl>
              <a:tblPr/>
              <a:tblGrid>
                <a:gridCol w="241200"/>
                <a:gridCol w="1755720"/>
              </a:tblGrid>
              <a:tr h="305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6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                                </a:t>
                      </a: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693960" y="3360600"/>
            <a:ext cx="9720" cy="28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Inside battery"/>
          <p:cNvPicPr/>
          <p:nvPr/>
        </p:nvPicPr>
        <p:blipFill>
          <a:blip r:embed="rId2"/>
          <a:stretch/>
        </p:blipFill>
        <p:spPr>
          <a:xfrm>
            <a:off x="0" y="0"/>
            <a:ext cx="39067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809880" y="3042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e's how a dry cell work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743120"/>
            <a:ext cx="2133720" cy="3809880"/>
          </a:xfrm>
          <a:prstGeom prst="rect">
            <a:avLst/>
          </a:prstGeom>
          <a:solidFill>
            <a:srgbClr val="bbe0e3">
              <a:alpha val="37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1828800"/>
            <a:ext cx="380880" cy="3276720"/>
          </a:xfrm>
          <a:prstGeom prst="rect">
            <a:avLst/>
          </a:prstGeom>
          <a:solidFill>
            <a:srgbClr val="ff0000">
              <a:alpha val="48000"/>
            </a:srgbClr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91120" y="4694040"/>
            <a:ext cx="495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other electrode is a carbon rod in the cen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2486160"/>
            <a:ext cx="4952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ell is made up of a zinc can, which acts as the  contai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573360" y="1974960"/>
          <a:ext cx="1996920" cy="2909880"/>
        </p:xfrm>
        <a:graphic>
          <a:graphicData uri="http://schemas.openxmlformats.org/drawingml/2006/table">
            <a:tbl>
              <a:tblPr/>
              <a:tblGrid>
                <a:gridCol w="241200"/>
                <a:gridCol w="1755720"/>
              </a:tblGrid>
              <a:tr h="305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6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                                </a:t>
                      </a: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693960" y="3360600"/>
            <a:ext cx="9720" cy="28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Inside battery"/>
          <p:cNvPicPr/>
          <p:nvPr/>
        </p:nvPicPr>
        <p:blipFill>
          <a:blip r:embed="rId2"/>
          <a:stretch/>
        </p:blipFill>
        <p:spPr>
          <a:xfrm>
            <a:off x="0" y="0"/>
            <a:ext cx="39067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809880" y="3042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e's how a dry cell work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91120" y="1285200"/>
            <a:ext cx="495288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arbon rod is surrounded by a pasty mixture that could be a strong base such as </a:t>
            </a:r>
            <a:r>
              <a:rPr b="1" i="1" lang="en-US" sz="2800" spc="-1" strike="noStrike">
                <a:solidFill>
                  <a:srgbClr val="6600ff"/>
                </a:solidFill>
                <a:latin typeface="Arial"/>
              </a:rPr>
              <a:t>potassium hydroxid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ong acids like </a:t>
            </a: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sulfuric aci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an also react with certain metals to make electr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2133720"/>
            <a:ext cx="1066680" cy="3047760"/>
          </a:xfrm>
          <a:prstGeom prst="rect">
            <a:avLst/>
          </a:prstGeom>
          <a:solidFill>
            <a:srgbClr val="6600ff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Inside battery"/>
          <p:cNvPicPr/>
          <p:nvPr/>
        </p:nvPicPr>
        <p:blipFill>
          <a:blip r:embed="rId1"/>
          <a:stretch/>
        </p:blipFill>
        <p:spPr>
          <a:xfrm>
            <a:off x="0" y="0"/>
            <a:ext cx="390672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886200" y="4589280"/>
            <a:ext cx="52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arbon atoms become positive while the zinc atoms become negativ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1328760"/>
            <a:ext cx="525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chemical reaction from the paste causes the zinc container to steal electrons from the carbon atom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3360" y="1828800"/>
            <a:ext cx="1981080" cy="3733920"/>
          </a:xfrm>
          <a:prstGeom prst="rect">
            <a:avLst/>
          </a:prstGeom>
          <a:noFill/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5548320"/>
            <a:ext cx="685800" cy="685800"/>
          </a:xfrm>
          <a:prstGeom prst="ellipse">
            <a:avLst/>
          </a:prstGeom>
          <a:noFill/>
          <a:ln w="95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43000" y="1828800"/>
            <a:ext cx="380880" cy="3276720"/>
          </a:xfrm>
          <a:prstGeom prst="rect">
            <a:avLst/>
          </a:prstGeom>
          <a:solidFill>
            <a:srgbClr val="ff0000">
              <a:alpha val="48000"/>
            </a:srgbClr>
          </a:solidFill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2440" y="1019160"/>
            <a:ext cx="685800" cy="685800"/>
          </a:xfrm>
          <a:prstGeom prst="ellipse">
            <a:avLst/>
          </a:prstGeom>
          <a:noFill/>
          <a:ln w="95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Inside battery"/>
          <p:cNvPicPr/>
          <p:nvPr/>
        </p:nvPicPr>
        <p:blipFill>
          <a:blip r:embed="rId1"/>
          <a:stretch/>
        </p:blipFill>
        <p:spPr>
          <a:xfrm>
            <a:off x="0" y="0"/>
            <a:ext cx="390672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800600" y="630360"/>
            <a:ext cx="434340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a circuit is created between the positive and negative terminals of our cell, the electrons will be pulled by the positive carbon atom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lectrons are pushed by the chemical reaction until the metals are too corroded and the cell is said to be “dead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3360" y="1828800"/>
            <a:ext cx="1981080" cy="3733920"/>
          </a:xfrm>
          <a:prstGeom prst="rect">
            <a:avLst/>
          </a:prstGeom>
          <a:noFill/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5548320"/>
            <a:ext cx="685800" cy="685800"/>
          </a:xfrm>
          <a:prstGeom prst="ellipse">
            <a:avLst/>
          </a:prstGeom>
          <a:noFill/>
          <a:ln w="95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1828800"/>
            <a:ext cx="380880" cy="3276720"/>
          </a:xfrm>
          <a:prstGeom prst="rect">
            <a:avLst/>
          </a:prstGeom>
          <a:solidFill>
            <a:srgbClr val="ff0000">
              <a:alpha val="48000"/>
            </a:srgbClr>
          </a:solidFill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2440" y="1019160"/>
            <a:ext cx="685800" cy="685800"/>
          </a:xfrm>
          <a:prstGeom prst="ellipse">
            <a:avLst/>
          </a:prstGeom>
          <a:noFill/>
          <a:ln w="95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590920" y="3657600"/>
            <a:ext cx="761760" cy="2819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2590560" y="762120"/>
            <a:ext cx="533160" cy="266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 rot="5400000">
            <a:off x="3274920" y="2692080"/>
            <a:ext cx="126972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0" y="9144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w use your notes to write a paragraph that explains how a dry cell makes electrici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w and label a diagram to help explain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791320" y="388620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8600" y="4114800"/>
            <a:ext cx="51814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Word Ban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electrolyte, electrodes, chemical reaction, positive, negative, terminals, current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57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19:50:33Z</dcterms:created>
  <dc:creator>ccps</dc:creator>
  <dc:description/>
  <dc:language>en-US</dc:language>
  <cp:lastModifiedBy>ccps</cp:lastModifiedBy>
  <dcterms:modified xsi:type="dcterms:W3CDTF">2009-05-20T18:16:49Z</dcterms:modified>
  <cp:revision>13</cp:revision>
  <dc:subject/>
  <dc:title>Slide 1</dc:title>
</cp:coreProperties>
</file>